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657-A542-4154-B11C-9BC16C98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E1D-D2E9-44C8-91C4-7BFC8523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7C2-64F8-4717-818F-785945B0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536-0A2D-423A-9373-B69ED6B7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3F1-F8C9-4994-B966-BEDEEC65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381-389E-41E7-9AB2-B977DD45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D7C-CFF1-4C56-A4E8-1ACD0701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440-116E-499A-92B4-C113D4FE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A8B-8300-4723-AFEA-5F401EB5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161-999B-4A39-8AAB-7E084555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781-E2DF-4D23-B47B-CDC93946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D31-54E0-4BFF-A0DD-2DB98A84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CB29-1188-4BCD-982E-B8B7E6D23F8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3 CuadroTexto"/>
          <p:cNvSpPr/>
          <p:nvPr/>
        </p:nvSpPr>
        <p:spPr>
          <a:xfrm>
            <a:off x="2000160" y="785880"/>
            <a:ext cx="542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Arial"/>
              </a:rPr>
              <a:t>CONTRATACIÓN CDMB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2620800"/>
          <a:ext cx="6096240" cy="1617840"/>
        </p:xfrm>
        <a:graphic>
          <a:graphicData uri="http://schemas.openxmlformats.org/drawingml/2006/table">
            <a:tbl>
              <a:tblPr/>
              <a:tblGrid>
                <a:gridCol w="3646440"/>
                <a:gridCol w="2449800"/>
              </a:tblGrid>
              <a:tr h="322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.843.095.4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.200.662.62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NTRATACIÓN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.043.758.08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143000" y="285840"/>
          <a:ext cx="7515360" cy="5378400"/>
        </p:xfrm>
        <a:graphic>
          <a:graphicData uri="http://schemas.openxmlformats.org/drawingml/2006/table">
            <a:tbl>
              <a:tblPr/>
              <a:tblGrid>
                <a:gridCol w="5786280"/>
                <a:gridCol w="172908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EN LA PLANIFICACIÓN INTEGRAL PARA EL MANEJO Y ATENCIÓN DEL RIESGO DE ORIGEN NATURAL Y ANTRÓP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980,5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 Y ECONÓMICO A LAS ADMONES MPALES PARA EL CONTROL DE LA EROSIÓN Y EL MANEJO DE LA DEGRAD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2,092,9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, SEGUIMIENTO Y FORTALECIMIENTO A ADMONES MPALES E IMPLEMENTACIÓN DE POT Y SIGAM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66,2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Y SEGUIMIENTOS A LA GESTIÓN INTEGRAL DE RESIDUOS SÓLIDOS EN EL ÁREA DE JURISDICCIÓN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34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, CONSERVACIÓN Y USO SOSTENIBLE DE LA BIODIVERSIDAD EN EL ÁREA DE JURISDICCIÓN DE LA C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, INVESTIG Y PROPAGACIÓN FLORA DEL NORORIENTE DE SANTANDER EN EL JARDÍN BOTÁNICO ELOY V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499,6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TORIA DE ÁREAS PROTEGIDAS Y ESTABLECIMIENTO DEL SISTEMA REGIONAL DE ÁREAS PROTEGIDAS JURISDI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,308,3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Y EJECUCIÓN DE UN PLAN ESTRATÉGICO DE INVESTIGACIÓN AMBIENTAL REGIONAL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2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MBIENTAL Y PARTICIPACIÓN SOCIAL PARA LA GESTIÓN AMBIENTAL EN EL ÁREA DE JURISDICCIÓN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,681,2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, SEGUIMIENTO Y CONTROL AMBIENTAL EN LA EJECUCIÓN DE PROYECTOS DE DESARROLLO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427,3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PRODUCTIVO INDUSTRIAL EN IMPLEMENT PRODUC MÁS LIMPIA Y ACCESO A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564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RURAL PARA IMPLEMENTAC PROYECTOS PRODUCTIVOS SOSTENIBLES Y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08,5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DEL PLAN DE ACCIÓN REGIONAL DE LUCHA CONTRA LA SEQUÍA Y LA DESERTIFICACIÓN Y MANEJO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7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43000" y="285840"/>
          <a:ext cx="7500960" cy="5092560"/>
        </p:xfrm>
        <a:graphic>
          <a:graphicData uri="http://schemas.openxmlformats.org/drawingml/2006/table">
            <a:tbl>
              <a:tblPr/>
              <a:tblGrid>
                <a:gridCol w="6099120"/>
                <a:gridCol w="140184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E IMPLEMENTACIÓN DE UN PLAN DE ORDENAM Y MANEJO SILVICULTURA URBANA PARA EL MEJORAM DE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300,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Y DESARROLLO DEL PLAN GENERAL DE ORDENACIÓN FORESTAL DEL ÁREA DE JURISDICCIÓN DE LA CD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, ADOPCIÓN Y SEGUIMIENTO A PLANES ORDENAM Y MANEJO DE CUENCAS ABASTECEDORAS DE ACUEDUC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37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DEL SISTEMA DE INFORMACIÓN AMBIENTAL COMO SOPORTE PARA LA GESTIÓN DE LA CDMB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125,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Y COORDINAC INTERINSTITUC DE LOS ACTORES QUE CONFORMAN EL SISTEMA NACIONAL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125,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Y APOYO AMBIENTAL PARA EL MANEJO DE LAS AGUAS RESIDUALES A LOS MUNICIPIOS DEL ÁREA DE JURISDI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756,3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 DE MECANISMOS TENDIENTES A REDUCIR LA CONTAMINAC AMBIENTAL GENERADA POR LA MINERÍA EN 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877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L RECURSO HÍDRICO, CONTROL DE VERTIMIENTOS Y MONITOREO DE CORRIENTES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354,7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CIÓN, CONTROL Y MONITOREO DE LA CONTAMINAC ATMOSFÉRICA CON ÉNFASIS EN EL MEJORAM DE LA SALUD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119,7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, RECUPERACIÓN, CONSERVACIÓN Y MANEJO DE CUENCAS HIDROGRÁFICAS ABASTECEDORAS DE ACUE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300,0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MENTACIÓN, DISTRIBUCIÓN Y USO EFICIENTE DEL RECURSO HÍDRICO EN EL ÁREA DE JURISDICCIÓN CDMB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23,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CIÓN Y CONTROL DE LOS RECURSOS FLORA Y FAUNA SILVESTRE EN EL ÁREA DE JURISDICCIÓN DE LA CDM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738,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IÓN, CONSERVACIÓN Y USO SOSTENIBLE DE ECOSISTEMAS ESTRATÉGICOS DE PÁRAMOS Y HUMEDALES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70,1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571680"/>
          <a:ext cx="7672320" cy="4655880"/>
        </p:xfrm>
        <a:graphic>
          <a:graphicData uri="http://schemas.openxmlformats.org/drawingml/2006/table">
            <a:tbl>
              <a:tblPr/>
              <a:tblGrid>
                <a:gridCol w="6697800"/>
                <a:gridCol w="974520"/>
              </a:tblGrid>
              <a:tr h="187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VESTIGACIÓN PARTICIPATIVA A PARTIR DE UN MARCO DE DOCUMENTACIÓN, PLANEACIÓN, DIAGNÓSTICO Y PROPOSICIÓN QUE VAYAN ENCAMINADOS A ESTRUCTURAR UN MODELO DE MEJORAMIENTO DE ASENTAMIENTOS SUBNORMALES EN LAS DIMENSIONES AMBIENTAL, ESPACIAL Y SOCIAL EN TRES (3) REALIDADES QUE SERAN TOMADAS COMO EXPERIMENTO PILO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,8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TERVENCIÓN CONJUNTA EN ESCENARIOS DE LA ESTRUCTURA ECOLÓGICA PRINCIPAL URBANA DEL ÁREA METROPOLITANA DE BUCARAMANGA, A PARTIR DE UN MARCO DE DOCUMENTACIÓN, PLANEACIÓN, DIAGNÓSTICO Y EJECUCIÓN QUE VAYAN ENCAMINADOS A PROPICIAR ESPACIOS DE ENCUENTRO COMUNITARIO DONDE SE CONSOLIDE UNA CULTURA AMBIENTAL CIUDADANA DE RESPETO Y PRESERVACIÓN POR EL PATRIMONIO NAT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45,4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SISTEMAS DE DRENAJE EXISTENTES EN LOS MUNICIPIOS DE BUCARAMANGA Y FLORIDABLAN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421,5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CAMIENTO CON MALLA ESLABONADA Y CERCA DE ALAMBRE EN DIFERENTES SITIOS DEL MUNICIPIO DE BUCARAMA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262,1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IZACION Y COMPONENTES BIODIVERSIDAD CON ÉNFASIS EN ESPECIES PROMISORIAS Y RECUPERACION DE LOS CONOCIMIENTOS ANCESTRALES EN USO DE LA BIODIVERSIDAD EN LA SUBCUENA RIO CACHIR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UDIO DENOMINADO DELIMITACIÓN Y ACTUALIZACIÓN DEL DMI METROPOLITANO Y FORMULACIÓN DEL PLAN DE MANEJO EN LOS MUNICIPIOS DE BUCARAMANGA, FLORIDABLANCA, GIRÓN Y PIEDECU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,466,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ESTUDIOS Y DISEÑOS DE PLANES MAESTROS DE ALCANTARILLADO Y PLANTAS DE TRATAMIENTO DE AGUAS RESIDUALES PARA LOS CENTROS POBLADOS DE SANTA CRUZ DE LA COLINA, SAN RAFAEL Y PORTUGAL Y ACTUALIZACION DE LOS ESTUDIOS Y DISEÑOS DE PLANES MAESTROS DE ALCANTARILLADO Y PLANTAS DE TRATAMIENTO DE AGUAS RESIDUALES DEL CENTRO POBLADO DE BERLÍN Y LOS MUNICIPIOS DE CALIFORNIA, RIONEGRO, TONA, LEBRIJA, VETAS, SURATÁ, CHARTA Y MATA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8,156,3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A DE CUATRO PLATAFORMAS PARA PRECIPITACIÓN DE ORO EN SOLUCIONES CIANURADAS UTILIZANDO ZINC EN POLVO COMO AGENTE PRECIPITA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29,8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AR EL SERVICIO DE ESTABLECIMIENTO Y MANEJO DE LA PRODUCCIÓN DE MATERIAL VEGETAL DE LAS ESPECIES ORNAMENTALES Y ESPECIES FORESTALES PROTECTORAS Y PRODUCTORAS EN LOS VIVEROS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413,8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3:03:32Z</dcterms:modified>
  <cp:revision>4</cp:revision>
  <dc:subject/>
  <dc:title>Diapositiva 1</dc:title>
</cp:coreProperties>
</file>